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media/image56.png" ContentType="image/png"/>
  <Override PartName="/ppt/media/image1.wmf" ContentType="image/x-wmf"/>
  <Override PartName="/ppt/media/image55.png" ContentType="image/png"/>
  <Override PartName="/ppt/media/image54.png" ContentType="image/png"/>
  <Override PartName="/ppt/media/image53.png" ContentType="image/png"/>
  <Override PartName="/ppt/media/image10.wmf" ContentType="image/x-wmf"/>
  <Override PartName="/ppt/media/image52.png" ContentType="image/png"/>
  <Override PartName="/ppt/media/image51.png" ContentType="image/png"/>
  <Override PartName="/ppt/media/image50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9.png" ContentType="image/png"/>
  <Override PartName="/ppt/media/image18.png" ContentType="image/png"/>
  <Override PartName="/ppt/media/image60.png" ContentType="image/png"/>
  <Override PartName="/ppt/media/image20.png" ContentType="image/png"/>
  <Override PartName="/ppt/media/image2.wmf" ContentType="image/x-wmf"/>
  <Override PartName="/ppt/media/image57.png" ContentType="image/png"/>
  <Override PartName="/ppt/media/image19.png" ContentType="image/png"/>
  <Override PartName="/ppt/media/image61.png" ContentType="image/png"/>
  <Override PartName="/ppt/media/image21.png" ContentType="image/png"/>
  <Override PartName="/ppt/media/image3.wmf" ContentType="image/x-wmf"/>
  <Override PartName="/ppt/media/image58.png" ContentType="image/png"/>
  <Override PartName="/ppt/media/image22.png" ContentType="image/png"/>
  <Override PartName="/ppt/media/image4.wmf" ContentType="image/x-wmf"/>
  <Override PartName="/ppt/media/image59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28.png" ContentType="image/png"/>
  <Override PartName="/ppt/media/image62.png" ContentType="image/png"/>
  <Override PartName="/ppt/media/image64.png" ContentType="image/png"/>
  <Override PartName="/ppt/media/image27.png" ContentType="image/png"/>
  <Override PartName="/ppt/media/image24.png" ContentType="image/png"/>
  <Override PartName="/ppt/media/image63.png" ContentType="image/png"/>
  <Override PartName="/ppt/media/image26.png" ContentType="image/png"/>
  <Override PartName="/ppt/media/image23.png" ContentType="image/png"/>
  <Override PartName="/ppt/media/image5.wmf" ContentType="image/x-wmf"/>
  <Override PartName="/ppt/media/image25.png" ContentType="image/png"/>
  <Override PartName="/ppt/media/image11.png" ContentType="image/png"/>
  <Override PartName="/ppt/media/image48.png" ContentType="image/png"/>
  <Override PartName="/ppt/media/image6.wmf" ContentType="image/x-wmf"/>
  <Override PartName="/ppt/media/image12.png" ContentType="image/png"/>
  <Override PartName="/ppt/media/image49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40.png" ContentType="image/png"/>
  <Override PartName="/ppt/media/image14.png" ContentType="image/png"/>
  <Override PartName="/ppt/media/image9.wmf" ContentType="image/x-wmf"/>
  <Override PartName="/ppt/media/image41.png" ContentType="image/png"/>
  <Override PartName="/ppt/media/image32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38.png" ContentType="image/png"/>
  <Override PartName="/ppt/media/image39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4C45-293E-46D8-83A2-E6D4C9A21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1269-9242-4A58-9120-9BA9F253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49C0-208A-4FD0-BC05-3FE40FE4A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E410-D829-47DA-A6DC-FF7A8477A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DC9F-E7AB-4718-9594-799739290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6F5B-A468-4378-A19E-19457C17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3789-54DF-402A-BAC7-602AC415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BB6E-5298-4B71-8166-E93F02D8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5E38-CCFF-48D1-BBE3-BC2BAA57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9D53-35E4-475A-A588-887B0FAE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A484-6FCF-4931-AE62-51C7E349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F9BD-3754-4840-97F6-C0BBD39A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E6164-6675-4843-8F01-F0C5AF95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18CE-93E5-43BB-8837-C4DF77B9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B897-ADE3-489D-B8BC-6B3D5AF3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B704-D90A-4A84-A571-C43FF9BC9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4622-6653-4917-8F60-7F5DF7780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8CF5-725A-40CA-B077-F20468F9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588F-5CFA-48FA-9C7D-1F092CDF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B1D8-2AAD-4E51-B7D2-1C3EF686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E798-36B3-4EF4-9B49-8AF2227F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9E72-CF0A-443D-B794-083C788F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70B0-4942-4811-B432-E2EF32F5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8502-9BF8-496C-A2A6-3BCF3FAF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9FE7-3FD7-4404-A507-90DA9FCFE0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6F69-E322-498D-91F7-FED03174BD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9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0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0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0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0.wmf"/><Relationship Id="rId37" Type="http://schemas.openxmlformats.org/officeDocument/2006/relationships/slideLayout" Target="../slideLayouts/slideLayout1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Windows hálózati infrastruktúra kialakítása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összefoglal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indows Server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519200" y="1528920"/>
            <a:ext cx="6107040" cy="38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indows Server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514520" y="1514520"/>
            <a:ext cx="61149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indows Server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509840" y="1523880"/>
            <a:ext cx="61261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indows Server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509840" y="1133640"/>
            <a:ext cx="612612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indows Server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519200" y="1133640"/>
            <a:ext cx="610704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indows Server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519200" y="1133640"/>
            <a:ext cx="610704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indows Server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519200" y="1133640"/>
            <a:ext cx="610704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indows Server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514520" y="1138320"/>
            <a:ext cx="611496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indows Server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519200" y="1133640"/>
            <a:ext cx="610704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indows Server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528920" y="1128600"/>
            <a:ext cx="608796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eendők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zükséges hardver felmér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 az ami már meg v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 az amit, ki kell dob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t kell beszerez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lyen hálózati szolgáltatásokat akar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velezé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yomtat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 elé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indows Server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514520" y="1133640"/>
            <a:ext cx="611496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indows Server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514520" y="1133640"/>
            <a:ext cx="611496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indows Server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519200" y="1133640"/>
            <a:ext cx="610704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NS szolgáltatás telepítése és beállítás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zükséges adato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IP címtartomán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teljes tartománynév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szerverek és a munkaállomások egyedi nev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internet-szolgáltató nameservereinek az IP cím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elepítés : a vezérlőpultban programok hozzáadását elindítva, válasszuk ki a Windows összetevők hozzáadását, és jelöljük ki a hálózati szolgáltatások közül a DNS –t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NS szolgáltatás telepítése és beállítás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612612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NS szolgáltatás telepítése és beállítás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12612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NS szolgáltatás telepítése és beállítás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10704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NS szolgáltatás telepítése és beállítás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13404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NS szolgáltatás telepítése és beállítás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12648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NS szolgáltatás telepítése és beállítás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0962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gy kis vállalat hálózat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8360" y="1773360"/>
          <a:ext cx="1368360" cy="10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136836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2411280" y="1989000"/>
          <a:ext cx="587520" cy="9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1989000"/>
                    <a:ext cx="58752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5508720" y="5160960"/>
          <a:ext cx="844560" cy="84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08720" y="5160960"/>
                    <a:ext cx="84456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356000" y="3359160"/>
          <a:ext cx="936720" cy="739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56000" y="3359160"/>
                    <a:ext cx="93672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258920" y="4292640"/>
          <a:ext cx="744480" cy="947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58920" y="4292640"/>
                    <a:ext cx="744480" cy="9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411280" y="4221000"/>
          <a:ext cx="744840" cy="1071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11280" y="4221000"/>
                    <a:ext cx="74484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076720" y="1844640"/>
          <a:ext cx="741600" cy="1003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76720" y="1844640"/>
                    <a:ext cx="7416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492360" y="1773360"/>
          <a:ext cx="744840" cy="1015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92360" y="1773360"/>
                    <a:ext cx="74484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6732720" y="2492280"/>
          <a:ext cx="1001520" cy="947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732720" y="2492280"/>
                    <a:ext cx="100152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6227640" y="2997360"/>
          <a:ext cx="594000" cy="7729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227640" y="2997360"/>
                    <a:ext cx="59400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6948360" y="2708280"/>
          <a:ext cx="1001880" cy="947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948360" y="2708280"/>
                    <a:ext cx="100188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7164360" y="2924280"/>
          <a:ext cx="1001880" cy="947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164360" y="2924280"/>
                    <a:ext cx="1001880" cy="9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7380360" y="3139920"/>
          <a:ext cx="1001520" cy="9478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380360" y="3139920"/>
                    <a:ext cx="100152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7596360" y="3355920"/>
          <a:ext cx="1001520" cy="9478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596360" y="3355920"/>
                    <a:ext cx="100152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6443640" y="3213000"/>
          <a:ext cx="593640" cy="7732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443640" y="3213000"/>
                    <a:ext cx="59364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659640" y="3429000"/>
          <a:ext cx="593640" cy="773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659640" y="3429000"/>
                    <a:ext cx="59364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6875640" y="3645000"/>
          <a:ext cx="593640" cy="7729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875640" y="3645000"/>
                    <a:ext cx="59364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7091280" y="3860640"/>
          <a:ext cx="593640" cy="7732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091280" y="3860640"/>
                    <a:ext cx="59364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39" name=""/>
          <p:cNvCxnSpPr/>
          <p:nvPr/>
        </p:nvCxnSpPr>
        <p:spPr>
          <a:xfrm flipV="1">
            <a:off x="2998440" y="2280600"/>
            <a:ext cx="494280" cy="183240"/>
          </a:xfrm>
          <a:prstGeom prst="bentConnector3">
            <a:avLst>
              <a:gd name="adj1" fmla="val 49781"/>
            </a:avLst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0" name=""/>
          <p:cNvCxnSpPr/>
          <p:nvPr/>
        </p:nvCxnSpPr>
        <p:spPr>
          <a:xfrm flipH="1" rot="16200000">
            <a:off x="4059000" y="2594520"/>
            <a:ext cx="570600" cy="959400"/>
          </a:xfrm>
          <a:prstGeom prst="bentConnector3">
            <a:avLst>
              <a:gd name="adj1" fmla="val 49810"/>
            </a:avLst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1" name=""/>
          <p:cNvCxnSpPr/>
          <p:nvPr/>
        </p:nvCxnSpPr>
        <p:spPr>
          <a:xfrm flipV="1" rot="10800000">
            <a:off x="4823640" y="2345400"/>
            <a:ext cx="253080" cy="1013400"/>
          </a:xfrm>
          <a:prstGeom prst="bentConnector2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2" name=""/>
          <p:cNvCxnSpPr/>
          <p:nvPr/>
        </p:nvCxnSpPr>
        <p:spPr>
          <a:xfrm flipV="1" rot="10800000">
            <a:off x="1631160" y="3728520"/>
            <a:ext cx="2724840" cy="564480"/>
          </a:xfrm>
          <a:prstGeom prst="bentConnector2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3" name=""/>
          <p:cNvCxnSpPr/>
          <p:nvPr/>
        </p:nvCxnSpPr>
        <p:spPr>
          <a:xfrm flipH="1" flipV="1" rot="5400000">
            <a:off x="3323880" y="3188520"/>
            <a:ext cx="492840" cy="1572120"/>
          </a:xfrm>
          <a:prstGeom prst="bentConnector2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4" name=""/>
          <p:cNvCxnSpPr/>
          <p:nvPr/>
        </p:nvCxnSpPr>
        <p:spPr>
          <a:xfrm flipH="1" rot="16200000">
            <a:off x="4846680" y="4076280"/>
            <a:ext cx="1062720" cy="1107360"/>
          </a:xfrm>
          <a:prstGeom prst="bentConnector3">
            <a:avLst>
              <a:gd name="adj1" fmla="val 49915"/>
            </a:avLst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5" name=""/>
          <p:cNvCxnSpPr/>
          <p:nvPr/>
        </p:nvCxnSpPr>
        <p:spPr>
          <a:xfrm flipV="1">
            <a:off x="5292360" y="2491920"/>
            <a:ext cx="1942200" cy="1236960"/>
          </a:xfrm>
          <a:prstGeom prst="bentConnector4">
            <a:avLst>
              <a:gd name="adj1" fmla="val 37041"/>
              <a:gd name="adj2" fmla="val 118515"/>
            </a:avLst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6" name=""/>
          <p:cNvCxnSpPr/>
          <p:nvPr/>
        </p:nvCxnSpPr>
        <p:spPr>
          <a:xfrm>
            <a:off x="1836720" y="2304720"/>
            <a:ext cx="575280" cy="159480"/>
          </a:xfrm>
          <a:prstGeom prst="bentConnector3">
            <a:avLst>
              <a:gd name="adj1" fmla="val 49968"/>
            </a:avLst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395280" y="28526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530064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iszolgáló szerverek: WWW, adatbázis, levelez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48360" y="1413000"/>
            <a:ext cx="194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64000" y="14842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 vezérl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08000" y="148428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űzfal, proxy sz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NS szolgáltatás telepítése és beállítás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hhoz, hogy a AD szolgáltatás sikeresen települjön, a következő beállításokra van szüksé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leendő tartományvezérlő saját maga legyen a elsődleges DNS sz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tartományhoz tartozó elsődleges zonán engedélyezni a dinamikus frissíté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tartományhoz tartozó SOA rekord beállít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NS szolgáltatás telepítése és beállítás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NS szolgáltatás telepítése és beállítás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NS szolgáltatás telepítése és beállítás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NS szolgáltatás telepítése és beállítás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NS szolgáltatás telepítése és beállítás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NS szolgáltatás telepítése és beállítás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NS szolgáltatás telepítése és beállítás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NS szolgáltatás telepítése és beállítás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HCP telepítése és beállítás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gy alhálózaton egyszerre csak egy DHCP szerver leh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DHCP szervert telepítés után érvényesíteni k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zután kell egy új úgynevezett scope –ot létrehozni, melyet egy varázsló segítségével , könnyedén megtehetün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2b2b2"/>
                </a:solidFill>
                <a:latin typeface="Arial"/>
              </a:rPr>
              <a:t>Active Directory telepítése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zükséges információk összegyűjt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ülső szolgáltatótól kapott hálózati beállítás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 címek, DNS címek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első hálózat paramétere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sználni kívánt IP cím tartomá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vállalati névtér és tartomány struktú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zerverek és munkaállomások elnevezés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AD szerkezeti megtervezé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HCP telepítése és beállítás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HCP telepítése és beállítás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HCP telepítése és beállítás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HCP telepítése és beállítás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HCP telepítése és beállítás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HCP telepítése és beállítás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HCP telepítése és beállítás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HCP telepítése és beállítás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HCP telepítése és beállítás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HCP telepítése és beállítás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zerkezeti struktúrá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30320" y="1274760"/>
            <a:ext cx="3046320" cy="1604880"/>
            <a:chOff x="1030320" y="1274760"/>
            <a:chExt cx="3046320" cy="1604880"/>
          </a:xfrm>
        </p:grpSpPr>
        <p:sp>
          <p:nvSpPr>
            <p:cNvPr id="156" name=""/>
            <p:cNvSpPr/>
            <p:nvPr/>
          </p:nvSpPr>
          <p:spPr>
            <a:xfrm>
              <a:off x="1030320" y="1274760"/>
              <a:ext cx="3046320" cy="1604880"/>
            </a:xfrm>
            <a:prstGeom prst="roundRect">
              <a:avLst>
                <a:gd name="adj" fmla="val 16667"/>
              </a:avLst>
            </a:prstGeom>
            <a:solidFill>
              <a:srgbClr val="dfe8f2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560" bIns="1401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Arial Narrow"/>
                </a:rPr>
                <a:t>Funkció alap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1165320" y="1625760"/>
              <a:ext cx="1307880" cy="1153800"/>
              <a:chOff x="1165320" y="1625760"/>
              <a:chExt cx="1307880" cy="1153800"/>
            </a:xfrm>
          </p:grpSpPr>
          <p:pic>
            <p:nvPicPr>
              <p:cNvPr id="15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65320" y="1625760"/>
                <a:ext cx="1307880" cy="115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"/>
              <p:cNvSpPr/>
              <p:nvPr/>
            </p:nvSpPr>
            <p:spPr>
              <a:xfrm>
                <a:off x="1663920" y="1779480"/>
                <a:ext cx="28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Narrow"/>
                  </a:rPr>
                  <a:t>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311480" y="2369880"/>
                <a:ext cx="28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ffffff"/>
                    </a:solidFill>
                    <a:latin typeface="Arial Narrow"/>
                  </a:rPr>
                  <a:t>K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990800" y="2367000"/>
                <a:ext cx="285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Narrow"/>
                  </a:rPr>
                  <a:t>M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2482920" y="1758960"/>
              <a:ext cx="1295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– 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 Narrow"/>
                </a:rPr>
                <a:t>Kereskedele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Arial Narrow"/>
                </a:rPr>
                <a:t>K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– 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 Narrow"/>
                </a:rPr>
                <a:t>Könyvelé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M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- Marketi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338800" y="1432080"/>
            <a:ext cx="2822400" cy="2985840"/>
            <a:chOff x="5338800" y="1432080"/>
            <a:chExt cx="2822400" cy="2985840"/>
          </a:xfrm>
        </p:grpSpPr>
        <p:sp>
          <p:nvSpPr>
            <p:cNvPr id="164" name=""/>
            <p:cNvSpPr/>
            <p:nvPr/>
          </p:nvSpPr>
          <p:spPr>
            <a:xfrm>
              <a:off x="5600520" y="1841400"/>
              <a:ext cx="2292120" cy="2576520"/>
            </a:xfrm>
            <a:custGeom>
              <a:avLst/>
              <a:gdLst>
                <a:gd name="textAreaLeft" fmla="*/ 28800 w 2292120"/>
                <a:gd name="textAreaRight" fmla="*/ 2263320 w 2292120"/>
                <a:gd name="textAreaTop" fmla="*/ 28800 h 2576520"/>
                <a:gd name="textAreaBottom" fmla="*/ 2547720 h 2576520"/>
              </a:gdLst>
              <a:ahLst/>
              <a:rect l="textAreaLeft" t="textAreaTop" r="textAreaRight" b="textAreaBottom"/>
              <a:pathLst>
                <a:path w="21600" h="24280">
                  <a:moveTo>
                    <a:pt x="927" y="0"/>
                  </a:moveTo>
                  <a:arcTo wR="927" hR="927" stAng="16200000" swAng="-5400000"/>
                  <a:lnTo>
                    <a:pt x="0" y="23353"/>
                  </a:lnTo>
                  <a:arcTo wR="927" hR="927" stAng="10800000" swAng="-5400000"/>
                  <a:lnTo>
                    <a:pt x="20673" y="24280"/>
                  </a:lnTo>
                  <a:arcTo wR="927" hR="927" stAng="5400000" swAng="-5400000"/>
                  <a:lnTo>
                    <a:pt x="21600" y="927"/>
                  </a:lnTo>
                  <a:arcTo wR="927" hR="927" stAng="0" swAng="-5400000"/>
                  <a:close/>
                </a:path>
              </a:pathLst>
            </a:custGeom>
            <a:gradFill rotWithShape="0">
              <a:gsLst>
                <a:gs pos="0">
                  <a:srgbClr val="bbcde3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38800" y="1432080"/>
              <a:ext cx="282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 Narrow"/>
                </a:rPr>
                <a:t>Hibrid model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76840" y="1841400"/>
              <a:ext cx="2112480" cy="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06720" y="1979640"/>
              <a:ext cx="2085840" cy="65556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5000"/>
                </a:lnSpc>
                <a:spcBef>
                  <a:spcPts val="337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Arial Narrow"/>
                </a:rPr>
                <a:t>Funkció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395280" indent="-163440">
                <a:lnSpc>
                  <a:spcPct val="85000"/>
                </a:lnSpc>
                <a:spcBef>
                  <a:spcPts val="337"/>
                </a:spcBef>
                <a:buClr>
                  <a:srgbClr val="8dacd0"/>
                </a:buClr>
                <a:buFont typeface="Wingdings" charset="2"/>
                <a:buChar char="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 Narrow"/>
                </a:rPr>
                <a:t>Szervez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06720" y="2727360"/>
              <a:ext cx="2085840" cy="65556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5000"/>
                </a:lnSpc>
                <a:spcBef>
                  <a:spcPts val="337"/>
                </a:spcBef>
                <a:buSzPct val="10000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Arial Narrow"/>
                </a:rPr>
                <a:t>Telephel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395280" indent="-163440">
                <a:lnSpc>
                  <a:spcPct val="85000"/>
                </a:lnSpc>
                <a:spcBef>
                  <a:spcPts val="337"/>
                </a:spcBef>
                <a:buClr>
                  <a:srgbClr val="8dacd0"/>
                </a:buClr>
                <a:buFont typeface="Wingdings" charset="2"/>
                <a:buChar char="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 Narrow"/>
                </a:rPr>
                <a:t>Funkció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6720" y="3476520"/>
              <a:ext cx="2085840" cy="6559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5000"/>
                </a:lnSpc>
                <a:spcBef>
                  <a:spcPts val="337"/>
                </a:spcBef>
                <a:buSzPct val="100000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Arial Narrow"/>
                </a:rPr>
                <a:t>Szervez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395280" indent="-163440">
                <a:lnSpc>
                  <a:spcPct val="85000"/>
                </a:lnSpc>
                <a:spcBef>
                  <a:spcPts val="337"/>
                </a:spcBef>
                <a:buClr>
                  <a:srgbClr val="8dacd0"/>
                </a:buClr>
                <a:buFont typeface="Wingdings" charset="2"/>
                <a:buChar char="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 Narrow"/>
                </a:rPr>
                <a:t>Telephel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112840" y="2954160"/>
            <a:ext cx="3046320" cy="1605240"/>
            <a:chOff x="2112840" y="2954160"/>
            <a:chExt cx="3046320" cy="1605240"/>
          </a:xfrm>
        </p:grpSpPr>
        <p:sp>
          <p:nvSpPr>
            <p:cNvPr id="171" name=""/>
            <p:cNvSpPr/>
            <p:nvPr/>
          </p:nvSpPr>
          <p:spPr>
            <a:xfrm>
              <a:off x="2112840" y="2954160"/>
              <a:ext cx="3046320" cy="1605240"/>
            </a:xfrm>
            <a:prstGeom prst="roundRect">
              <a:avLst>
                <a:gd name="adj" fmla="val 16667"/>
              </a:avLst>
            </a:prstGeom>
            <a:solidFill>
              <a:srgbClr val="dfe8f2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0" bIns="1402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Arial Narrow"/>
                </a:rPr>
                <a:t>Szervezeti felépítés alap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247840" y="3300480"/>
              <a:ext cx="1307880" cy="1154160"/>
              <a:chOff x="2247840" y="3300480"/>
              <a:chExt cx="1307880" cy="1154160"/>
            </a:xfrm>
          </p:grpSpPr>
          <p:pic>
            <p:nvPicPr>
              <p:cNvPr id="17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247840" y="3300480"/>
                <a:ext cx="1307880" cy="11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"/>
              <p:cNvSpPr/>
              <p:nvPr/>
            </p:nvSpPr>
            <p:spPr>
              <a:xfrm>
                <a:off x="2720880" y="3441600"/>
                <a:ext cx="285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ffffff"/>
                    </a:solidFill>
                    <a:latin typeface="Arial Narrow"/>
                  </a:rPr>
                  <a:t>G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400120" y="4044960"/>
                <a:ext cx="285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ffffff"/>
                    </a:solidFill>
                    <a:latin typeface="Arial Narrow"/>
                  </a:rPr>
                  <a:t>K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076560" y="4044960"/>
                <a:ext cx="28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ffffff"/>
                    </a:solidFill>
                    <a:latin typeface="Arial Narrow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3565440" y="3552840"/>
              <a:ext cx="12952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Arial Narrow"/>
                </a:rPr>
                <a:t>G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– 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 Narrow"/>
                </a:rPr>
                <a:t>Gyártá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Arial Narro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– 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 Narrow"/>
                </a:rPr>
                <a:t>Tervezé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Arial Narrow"/>
                </a:rPr>
                <a:t>K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- 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 Narrow"/>
                </a:rPr>
                <a:t>Kutatá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182760" y="4635360"/>
            <a:ext cx="3046320" cy="1604880"/>
            <a:chOff x="3182760" y="4635360"/>
            <a:chExt cx="3046320" cy="1604880"/>
          </a:xfrm>
        </p:grpSpPr>
        <p:sp>
          <p:nvSpPr>
            <p:cNvPr id="179" name=""/>
            <p:cNvSpPr/>
            <p:nvPr/>
          </p:nvSpPr>
          <p:spPr>
            <a:xfrm>
              <a:off x="3182760" y="4635360"/>
              <a:ext cx="3046320" cy="1604880"/>
            </a:xfrm>
            <a:prstGeom prst="roundRect">
              <a:avLst>
                <a:gd name="adj" fmla="val 16667"/>
              </a:avLst>
            </a:prstGeom>
            <a:solidFill>
              <a:srgbClr val="dfe8f2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560" bIns="1401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Arial Narrow"/>
                </a:rPr>
                <a:t>Telephely alap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3317760" y="4997520"/>
              <a:ext cx="1307880" cy="1153800"/>
              <a:chOff x="3317760" y="4997520"/>
              <a:chExt cx="1307880" cy="1153800"/>
            </a:xfrm>
          </p:grpSpPr>
          <p:pic>
            <p:nvPicPr>
              <p:cNvPr id="18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317760" y="4997520"/>
                <a:ext cx="1307880" cy="115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"/>
              <p:cNvSpPr/>
              <p:nvPr/>
            </p:nvSpPr>
            <p:spPr>
              <a:xfrm>
                <a:off x="3809520" y="5138640"/>
                <a:ext cx="28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ffffff"/>
                    </a:solidFill>
                    <a:latin typeface="Arial Narrow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479400" y="5741640"/>
                <a:ext cx="28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ffffff"/>
                    </a:solidFill>
                    <a:latin typeface="Arial Narrow"/>
                  </a:rPr>
                  <a:t>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155840" y="5741640"/>
                <a:ext cx="28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ffffff"/>
                    </a:solidFill>
                    <a:latin typeface="Arial Narrow"/>
                  </a:rPr>
                  <a:t>M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4635360" y="5138640"/>
              <a:ext cx="1295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Arial Narrow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– 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 Narrow"/>
                </a:rPr>
                <a:t>Budapes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Arial Narrow"/>
                </a:rPr>
                <a:t>M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– 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 Narrow"/>
                </a:rPr>
                <a:t>Miskol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Arial Narrow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– 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 Narrow"/>
                </a:rPr>
                <a:t>Sopron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HCP telepítése és beállítás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HCP telepítése és beállítás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HCP telepítése és beállítás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HCP telepítése és beállítás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D szolgáltatás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szolgáltatás telepítése a dcpromo.exe futtatásával történi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felügyeleti eszközök szerver konfigurálása menüpontból is elindíthat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D szolgáltatás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D szolgáltatás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D szolgáltatás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D szolgáltatás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D szolgáltatás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D vezérlő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ows Server telepít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S Server szolgáltatás telepítése és beállítá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HCP Server szolgáltatás telepítése és beállítá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 szolgáltatás telepít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D szolgáltatás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D szolgáltatás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D szolgáltatás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D szolgáltatás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D szolgáltatás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D szolgáltatás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D szolgáltatás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D szolgáltatás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D szolgáltatás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D szolgáltatás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indows Server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inimálisan szükséges hardver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256 MB 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4GB HD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álózati kárt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VGA kártya, C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jánlott hard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512 MB 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20 GB HD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100 MBites vagy gyorsabb hálózati kárt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VGA vezérlő, DVD ír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indows Server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509840" y="1514520"/>
            <a:ext cx="61261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indows Server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509840" y="1528920"/>
            <a:ext cx="6126120" cy="38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3T08:13:08Z</dcterms:created>
  <dc:creator>Nagymáté Péter</dc:creator>
  <dc:description/>
  <dc:language>en-US</dc:language>
  <cp:lastModifiedBy>Nagymáté Péter</cp:lastModifiedBy>
  <dcterms:modified xsi:type="dcterms:W3CDTF">2004-11-23T13:33:42Z</dcterms:modified>
  <cp:revision>14</cp:revision>
  <dc:subject/>
  <dc:title>Windows hálózati infrastruktúra kialakítása</dc:title>
</cp:coreProperties>
</file>